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E5A81-42C3-4159-99A2-5F5DABEA4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0001A-24BA-4ECC-B0EC-68BBCF842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A40D4-D303-40E8-B883-0F43B584F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3C3E9-C9BA-4305-80FB-8C4B4B56B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3A9CC-C62C-4A75-B7FD-866A6E99C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F852E-4F4F-4C3D-9D6C-2C177B26F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8765B-615E-48BF-9C55-3A85D3CAF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2FA32-006D-4B10-9F63-4EE1FDCDA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88DC0-94F9-40CD-ADA6-3D6ACB81A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C6FD0-4B7F-4981-AA96-F49A7BD71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2E5B1-DDDA-4CD8-B0DD-979DB88CE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FD16D-AD4F-4BE0-ABBF-614893446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156F7-DC0A-4A4C-B356-C6A6E22982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hyperlink" Target="http://au.wrs.yahoo.com/_ylt=A0S0zu_mDa1MoFAA9xQW5gt./SIG=12p0v09tu/EXP=1286496102/**http%3A//www.headquartersmagazine.com/wwwhq/downloads/images/sydney.jpg" TargetMode="External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Multicultural Austral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yden Dun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yden dunn 7\10\201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2500"/>
                            </p:stCondLst>
                            <p:childTnLst>
                              <p:par>
                                <p:cTn id="14" nodeType="after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4500"/>
                            </p:stCondLst>
                            <p:childTnLst>
                              <p:par>
                                <p:cTn id="21" nodeType="afterEffect" fill="hold" presetClass="entr" presetID="2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5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5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9500"/>
                            </p:stCondLst>
                            <p:childTnLst>
                              <p:par>
                                <p:cTn id="2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64320" y="-720"/>
            <a:ext cx="573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ou is a young woman from Sudanese background 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124000" y="1699560"/>
            <a:ext cx="64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 has arrived on her own and her family is still in refugee camps in Keny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846880" y="548640"/>
            <a:ext cx="321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 is 22 and lives by hersel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219640" y="2204640"/>
            <a:ext cx="370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 has never lived in a city, but has caught on quickly working out public transpor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71240" y="1196280"/>
            <a:ext cx="450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 wants to learn how the system work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200" y="3141000"/>
            <a:ext cx="856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nts to keep improving her English and doesn’t know what work she wants to d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971640" y="3573360"/>
            <a:ext cx="691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el isolated and isn’t actively involved with the Sudanese community though she would like to b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948360" y="0"/>
            <a:ext cx="1143000" cy="15238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0" y="404640"/>
            <a:ext cx="2124000" cy="23036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250920" y="4797360"/>
            <a:ext cx="2374920" cy="15145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Image Preview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580000" y="4421160"/>
            <a:ext cx="3240000" cy="2436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yden dunn 7\10\201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6" dur="2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2000"/>
                            </p:stCondLst>
                            <p:childTnLst>
                              <p:par>
                                <p:cTn id="38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9" dur="2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4000"/>
                            </p:stCondLst>
                            <p:childTnLst>
                              <p:par>
                                <p:cTn id="4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4500"/>
                            </p:stCondLst>
                            <p:childTnLst>
                              <p:par>
                                <p:cTn id="4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1600"/>
                            </p:stCondLst>
                            <p:childTnLst>
                              <p:par>
                                <p:cTn id="5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3600"/>
                            </p:stCondLst>
                            <p:childTnLst>
                              <p:par>
                                <p:cTn id="6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5600"/>
                            </p:stCondLst>
                            <p:childTnLst>
                              <p:par>
                                <p:cTn id="8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7600"/>
                            </p:stCondLst>
                            <p:childTnLst>
                              <p:par>
                                <p:cTn id="10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6227640" y="3068280"/>
            <a:ext cx="316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y has just moved to a new suburb and was a teacher for yea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-360"/>
            <a:ext cx="43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 is lonely and doesn’t know anyone in the local are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014560" y="475560"/>
            <a:ext cx="712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 has health needs and wants to stay in touch with her children who live in another state but doesn’t know how to use a comput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5528880"/>
            <a:ext cx="464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 is feeling depressed about her life and feels like there is no purpose in her life anymor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981360" y="1483560"/>
            <a:ext cx="78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eryone around her is young and participating in life and she feels invi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3213000"/>
            <a:ext cx="3024360" cy="17002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0" y="620640"/>
            <a:ext cx="1873080" cy="1873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6948360" y="4149720"/>
            <a:ext cx="2005200" cy="24480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3851280" y="1989000"/>
            <a:ext cx="1884240" cy="1873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yden dunn 7\10\201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2500"/>
                            </p:stCondLst>
                            <p:childTnLst>
                              <p:par>
                                <p:cTn id="14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4500"/>
                            </p:stCondLst>
                            <p:childTnLst>
                              <p:par>
                                <p:cTn id="16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6500"/>
                            </p:stCondLst>
                            <p:childTnLst>
                              <p:par>
                                <p:cTn id="17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8500"/>
                            </p:stCondLst>
                            <p:childTnLst>
                              <p:par>
                                <p:cTn id="19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95" dur="2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0500"/>
                            </p:stCondLst>
                            <p:childTnLst>
                              <p:par>
                                <p:cTn id="197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98" dur="2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12500"/>
                            </p:stCondLst>
                            <p:childTnLst>
                              <p:par>
                                <p:cTn id="20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1" dur="2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4500"/>
                            </p:stCondLst>
                            <p:childTnLst>
                              <p:par>
                                <p:cTn id="203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4" dur="2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6500"/>
                            </p:stCondLst>
                            <p:childTnLst>
                              <p:par>
                                <p:cTn id="20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7" dur="2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2775960" y="188280"/>
            <a:ext cx="503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uka is 15 and has been to six different school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0" y="6216120"/>
            <a:ext cx="900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 is smart but he is bored by school and becomes disruptive in class and asked to leav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348000" y="1051920"/>
            <a:ext cx="45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 is hanging out at the youth centre and wants to learn but he doesn’t know wha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201040" y="1843920"/>
            <a:ext cx="634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 loves music and singing and often sings at family even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03200" y="4436280"/>
            <a:ext cx="833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s mother is worried that he will never get a job because he didn’t finish school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11280" y="5157360"/>
            <a:ext cx="633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 hasn’t told her that he can’t read or write and mask his literacy issue by getting himself taken out of schoo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808360" cy="18432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0" y="2349360"/>
            <a:ext cx="2374920" cy="178128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4140360" y="2421000"/>
            <a:ext cx="2447640" cy="163656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4"/>
          <a:stretch/>
        </p:blipFill>
        <p:spPr>
          <a:xfrm>
            <a:off x="7696080" y="4797360"/>
            <a:ext cx="881280" cy="1368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yden dunn 7\10\201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mph" presetID="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Scale>
                                      <p:cBhvr>
                                        <p:cTn id="213" dur="2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exit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checkerboard(across)" transition="out">
                                      <p:cBhvr additive="repl">
                                        <p:cTn id="216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2500"/>
                            </p:stCondLst>
                            <p:childTnLst>
                              <p:par>
                                <p:cTn id="219" nodeType="afterEffect" fill="hold" presetClass="exit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amond(in)" transition="out">
                                      <p:cBhvr additive="repl">
                                        <p:cTn id="220" dur="2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4500"/>
                            </p:stCondLst>
                            <p:childTnLst>
                              <p:par>
                                <p:cTn id="223" nodeType="afterEffect" fill="hold" presetClass="path" presetID="6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 0 L 0 -0.33295 E">
                                      <p:cBhvr>
                                        <p:cTn id="224" dur="2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6500"/>
                            </p:stCondLst>
                            <p:childTnLst>
                              <p:par>
                                <p:cTn id="22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10550"/>
                            </p:stCondLst>
                            <p:childTnLst>
                              <p:par>
                                <p:cTn id="23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5600"/>
                            </p:stCondLst>
                            <p:childTnLst>
                              <p:par>
                                <p:cTn id="24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19450"/>
                            </p:stCondLst>
                            <p:childTnLst>
                              <p:par>
                                <p:cTn id="25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22350"/>
                            </p:stCondLst>
                            <p:childTnLst>
                              <p:par>
                                <p:cTn id="25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26050"/>
                            </p:stCondLst>
                            <p:childTnLst>
                              <p:par>
                                <p:cTn id="26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6T23:43:09Z</dcterms:created>
  <dc:creator>RAC</dc:creator>
  <dc:description/>
  <dc:language>en-US</dc:language>
  <cp:lastModifiedBy>RAC</cp:lastModifiedBy>
  <dcterms:modified xsi:type="dcterms:W3CDTF">2010-10-07T00:50:22Z</dcterms:modified>
  <cp:revision>2</cp:revision>
  <dc:subject/>
  <dc:title>Multicultural Australia</dc:title>
</cp:coreProperties>
</file>